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F2C-ECFC-42A5-8B62-D0D10738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57E-95C7-41CC-96F6-CE550C5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B07-CF25-4644-B4F6-8EE4450D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067-F5D1-4E18-9B67-448B19A5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2D4-2B55-4B0C-BCD8-BFB785F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E06-1F30-4BF1-81D1-7813F5F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1FF-B746-48D9-BDE9-CFA765C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9C9-58D0-4A4B-8BB8-40478E6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BF3-0CBF-4952-96D6-02B7ECC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FB7-3212-4DA7-B230-C26C9E9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95B-4C7C-4274-8103-5767978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35A-8B5A-4C47-972D-534F36B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8A8F-30D7-4C3C-A3EF-1C99C5446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10fc5d2f2f3d6dbf64bf1885887f15" TargetMode="External"/><Relationship Id="rId4" Type="http://schemas.openxmlformats.org/officeDocument/2006/relationships/hyperlink" Target="http://www.foto-tapeta.org/panel/dane/galeria/z3p5epgjfu.jpg" TargetMode="External"/><Relationship Id="rId5" Type="http://schemas.openxmlformats.org/officeDocument/2006/relationships/hyperlink" Target="http://img0.liveinternet.ru/images/attach/c/9/106/972/106972030_sova_.png" TargetMode="External"/><Relationship Id="rId6" Type="http://schemas.openxmlformats.org/officeDocument/2006/relationships/hyperlink" Target="http://easyen.ru/load/metodika/k_prezentacijam/kollekcija_ramok_dlja_sozdanija_prezentacij/277-1-0-21925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1206360" y="2097000"/>
            <a:ext cx="7334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z3p5epgjfu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2728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06972030_sova_.png"/>
          <p:cNvPicPr/>
          <p:nvPr/>
        </p:nvPicPr>
        <p:blipFill>
          <a:blip r:embed="rId5"/>
          <a:stretch/>
        </p:blipFill>
        <p:spPr>
          <a:xfrm>
            <a:off x="642960" y="4286160"/>
            <a:ext cx="1763640" cy="2067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571840" y="56437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Автор-Костенко Наталья 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авляем в клеточки буквы ответа. На каждую букву ставим анимацию Появление. Направление – сле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5" descr="Новый рисунок (7).bmp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3906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0" name="Прямая со стрелкой 6"/>
          <p:cNvCxnSpPr/>
          <p:nvPr/>
        </p:nvCxnSpPr>
        <p:spPr>
          <a:xfrm>
            <a:off x="6928920" y="271476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россворде буквы появляются одна за другой. Поэтому на первую букву ставим Начало – по щелчку на карточку с вопросом, а на остальные – после предыдущег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станавливаем тригге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ремя – Переключатели – Начать выполнение при щелчке – Выбираем текст нашего вопроса – ОК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хотим, чтобы появилась картинка с ответом настраиваем триггер. Картинка появляется после того, как откроются буквы и исчезнет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5" descr="Новый рисунок (8).bmp"/>
          <p:cNvPicPr/>
          <p:nvPr/>
        </p:nvPicPr>
        <p:blipFill>
          <a:blip r:embed="rId3"/>
          <a:stretch/>
        </p:blipFill>
        <p:spPr>
          <a:xfrm>
            <a:off x="1714680" y="2571840"/>
            <a:ext cx="5973480" cy="3571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7" name="Прямая со стрелкой 6"/>
          <p:cNvCxnSpPr/>
          <p:nvPr/>
        </p:nvCxnSpPr>
        <p:spPr>
          <a:xfrm>
            <a:off x="6500880" y="5000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Прямая со стрелкой 7"/>
          <p:cNvCxnSpPr/>
          <p:nvPr/>
        </p:nvCxnSpPr>
        <p:spPr>
          <a:xfrm>
            <a:off x="2857680" y="31431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бы сделать следующий слайд, слева, в меню слайдов, правой кнопкой кликнем по сделанному нами слайду и выберем – Дублировать слай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8" descr="Новый рисунок (9).bmp"/>
          <p:cNvPicPr/>
          <p:nvPr/>
        </p:nvPicPr>
        <p:blipFill>
          <a:blip r:embed="rId3"/>
          <a:stretch/>
        </p:blipFill>
        <p:spPr>
          <a:xfrm>
            <a:off x="1285920" y="2428920"/>
            <a:ext cx="6643800" cy="38466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3" name="Прямая со стрелкой 9"/>
          <p:cNvCxnSpPr/>
          <p:nvPr/>
        </p:nvCxnSpPr>
        <p:spPr>
          <a:xfrm>
            <a:off x="1714680" y="4785840"/>
            <a:ext cx="42912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вет на первый вопрос остаётся, но анимацию с букв надо убрать. В прямоугольнике с вопросом удаляем текст первого вопроса, вставляем новый. Меняем цифру ответа.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Рисунок 6" descr="Новый рисунок (10).bmp"/>
          <p:cNvPicPr/>
          <p:nvPr/>
        </p:nvPicPr>
        <p:blipFill>
          <a:blip r:embed="rId3"/>
          <a:stretch/>
        </p:blipFill>
        <p:spPr>
          <a:xfrm>
            <a:off x="1500120" y="2428920"/>
            <a:ext cx="6093000" cy="36432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8" name="Прямая со стрелкой 7"/>
          <p:cNvCxnSpPr/>
          <p:nvPr/>
        </p:nvCxnSpPr>
        <p:spPr>
          <a:xfrm>
            <a:off x="4000680" y="371484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тором ответе буквы будут появляться сверху вниз, поэтому настроим появление букв «Сверху».На букву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О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которая появилась в первом слове и есть во второй анимацию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устанавлива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лируем предыдущим слайд и продолжаем работ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 забудьте изменить гиперссылку н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нопке перехода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забудьте убрать смену слайдов по щелчку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Новый рисунок (11).bmp"/>
          <p:cNvPicPr/>
          <p:nvPr/>
        </p:nvPicPr>
        <p:blipFill>
          <a:blip r:embed="rId3"/>
          <a:stretch/>
        </p:blipFill>
        <p:spPr>
          <a:xfrm>
            <a:off x="1714680" y="2714760"/>
            <a:ext cx="5857560" cy="3490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14" name="Прямая со стрелкой 5"/>
          <p:cNvCxnSpPr/>
          <p:nvPr/>
        </p:nvCxnSpPr>
        <p:spPr>
          <a:xfrm>
            <a:off x="6143760" y="2714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6"/>
          <p:cNvCxnSpPr/>
          <p:nvPr/>
        </p:nvCxnSpPr>
        <p:spPr>
          <a:xfrm>
            <a:off x="5071680" y="535788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конце работы делаем слайд со списком используемых источников. На нём размещаем ссылки на картинки, ссылки на страницы сайтов, откуда мы брали информацию для вопросов и указываем литературу, если мы брали информацию из книг. Ссылки должны быть прямыми и вести к источнику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Новый рисунок (12).bmp"/>
          <p:cNvPicPr/>
          <p:nvPr/>
        </p:nvPicPr>
        <p:blipFill>
          <a:blip r:embed="rId3"/>
          <a:stretch/>
        </p:blipFill>
        <p:spPr>
          <a:xfrm>
            <a:off x="1785960" y="2786040"/>
            <a:ext cx="5894280" cy="35035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24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здать интерактивный кроссворд с  5 словами( можно и больше)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TextBox 4" descr=""/>
          <p:cNvPicPr/>
          <p:nvPr/>
        </p:nvPicPr>
        <p:blipFill>
          <a:blip r:embed="rId3"/>
          <a:stretch/>
        </p:blipFill>
        <p:spPr>
          <a:xfrm>
            <a:off x="3444840" y="4584600"/>
            <a:ext cx="21812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4280" y="2286000"/>
            <a:ext cx="7429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at17.privet.ru/lr/0a10fc5d2f2f3d6dbf64bf1885887f15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to-tapeta.org/panel/dane/galeria/z3p5epgjfu.jp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зая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g0.liveinternet.ru/images/attach/c/9/106/972/106972030_sova_.pn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asyen.ru/load/metodika/k_prezentacijam/kollekcija_ramok_dlja_sozdanija_prezentacij/277-1-0-21925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-рам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грамма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w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int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аёт возможность создавать различные виды кроссвордов. На первом уроке мы рассмотрим создание простого интерактивного кроссворда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работе мы будем использовать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- средства рисования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триггеры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- анимаци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титульный слайд, на котором указываем название работы, класс, автор, устанавливаем управляющие кно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96_VRR.jpg"/>
          <p:cNvPicPr/>
          <p:nvPr/>
        </p:nvPicPr>
        <p:blipFill>
          <a:blip r:embed="rId3"/>
          <a:stretch/>
        </p:blipFill>
        <p:spPr>
          <a:xfrm>
            <a:off x="2000160" y="2178000"/>
            <a:ext cx="54295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52" name="Прямая со стрелкой 6"/>
          <p:cNvCxnSpPr/>
          <p:nvPr/>
        </p:nvCxnSpPr>
        <p:spPr>
          <a:xfrm flipH="1">
            <a:off x="6357600" y="5357880"/>
            <a:ext cx="357840" cy="4291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Прямая со стрелкой 7"/>
          <p:cNvCxnSpPr/>
          <p:nvPr/>
        </p:nvCxnSpPr>
        <p:spPr>
          <a:xfrm>
            <a:off x="2214720" y="550080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информационный слайд для ребят, в котором указываем, как пользоваться ресур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5" descr="апенр.jpg"/>
          <p:cNvPicPr/>
          <p:nvPr/>
        </p:nvPicPr>
        <p:blipFill>
          <a:blip r:embed="rId3"/>
          <a:stretch/>
        </p:blipFill>
        <p:spPr>
          <a:xfrm>
            <a:off x="1857240" y="2143080"/>
            <a:ext cx="5500800" cy="4125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к рабочему слайду и создаём сетку кроссворд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Вставка - фигуры -прямоуго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5" descr="Новый рисунок (1).bmp"/>
          <p:cNvPicPr/>
          <p:nvPr/>
        </p:nvPicPr>
        <p:blipFill>
          <a:blip r:embed="rId3"/>
          <a:stretch/>
        </p:blipFill>
        <p:spPr>
          <a:xfrm>
            <a:off x="1571760" y="2286000"/>
            <a:ext cx="6572160" cy="3933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2" name="Прямая со стрелкой 8"/>
          <p:cNvCxnSpPr/>
          <p:nvPr/>
        </p:nvCxnSpPr>
        <p:spPr>
          <a:xfrm>
            <a:off x="2214720" y="307188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1856880" y="20718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в средства рисования и задаём нашему прямоугольнику заливку фигуры, контур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7" descr="Новый рисунок (2).bmp"/>
          <p:cNvPicPr/>
          <p:nvPr/>
        </p:nvPicPr>
        <p:blipFill>
          <a:blip r:embed="rId3"/>
          <a:stretch/>
        </p:blipFill>
        <p:spPr>
          <a:xfrm>
            <a:off x="1428840" y="2286000"/>
            <a:ext cx="6646680" cy="389088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8" name="Прямая со стрелкой 9"/>
          <p:cNvCxnSpPr/>
          <p:nvPr/>
        </p:nvCxnSpPr>
        <p:spPr>
          <a:xfrm>
            <a:off x="3285720" y="22860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3571560" y="22147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3142800" y="24289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пируем готовый прямоугольник и вставляем на слайд столько раз, сколько нам необходимо для сет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10" descr="Новый рисунок (3).bmp"/>
          <p:cNvPicPr/>
          <p:nvPr/>
        </p:nvPicPr>
        <p:blipFill>
          <a:blip r:embed="rId3"/>
          <a:stretch/>
        </p:blipFill>
        <p:spPr>
          <a:xfrm>
            <a:off x="1214280" y="2071800"/>
            <a:ext cx="6929640" cy="412884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лаем сетку для кроссворда, используя прямоуго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5" descr="Новый рисунок (4).bmp"/>
          <p:cNvPicPr/>
          <p:nvPr/>
        </p:nvPicPr>
        <p:blipFill>
          <a:blip r:embed="rId3"/>
          <a:stretch/>
        </p:blipFill>
        <p:spPr>
          <a:xfrm>
            <a:off x="1143000" y="2071800"/>
            <a:ext cx="6861240" cy="40878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5" descr="Новый рисунок (6).bmp"/>
          <p:cNvPicPr/>
          <p:nvPr/>
        </p:nvPicPr>
        <p:blipFill>
          <a:blip r:embed="rId3"/>
          <a:stretch/>
        </p:blipFill>
        <p:spPr>
          <a:xfrm>
            <a:off x="1428840" y="2143080"/>
            <a:ext cx="68101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sp>
        <p:nvSpPr>
          <p:cNvPr id="83" name="TextBox 6"/>
          <p:cNvSpPr/>
          <p:nvPr/>
        </p:nvSpPr>
        <p:spPr>
          <a:xfrm>
            <a:off x="642960" y="500040"/>
            <a:ext cx="82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фигурах выбираем стрелку, которая будет указывать на слово, и ставим номер вопроса. Оформляем прямоугольник с вопросом. Ответ будет появляться, когда мы нажмём на прямоугольник с вопр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7"/>
          <p:cNvCxnSpPr/>
          <p:nvPr/>
        </p:nvCxnSpPr>
        <p:spPr>
          <a:xfrm>
            <a:off x="3428640" y="2999880"/>
            <a:ext cx="42948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8"/>
          <p:cNvCxnSpPr/>
          <p:nvPr/>
        </p:nvCxnSpPr>
        <p:spPr>
          <a:xfrm>
            <a:off x="4357800" y="40719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1T07:58:40Z</dcterms:created>
  <dc:creator>User</dc:creator>
  <dc:description/>
  <dc:language>en-US</dc:language>
  <cp:lastModifiedBy>User</cp:lastModifiedBy>
  <dcterms:modified xsi:type="dcterms:W3CDTF">2015-01-04T13:12:27Z</dcterms:modified>
  <cp:revision>12</cp:revision>
  <dc:subject/>
  <dc:title>Создание интерактивного кроссворда</dc:title>
</cp:coreProperties>
</file>